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35320"/>
        <c:axId val="38817289"/>
      </c:barChart>
      <c:catAx>
        <c:axId val="56235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17289"/>
        <c:crosses val="autoZero"/>
        <c:auto val="1"/>
        <c:lblAlgn val="ctr"/>
        <c:lblOffset val="100"/>
        <c:noMultiLvlLbl val="0"/>
      </c:catAx>
      <c:valAx>
        <c:axId val="38817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35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A61-6A52-49CB-8967-9BC24F4F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A86-1D65-4E9B-92FF-60B2F9A8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74C-8100-4802-9631-E1829760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B70-864B-4446-BF03-124FDA2E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524-7A5E-420F-BADF-F28EF496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EAE-E40C-43C9-A720-7A9923E0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F80-FDDE-4088-8C57-DAAE686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CE4-6892-4514-A534-DF6AC3D8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872-36B0-4277-8372-8507E8C7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15B-D3F6-4568-B97A-F4368BC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4E5-BA68-492F-8BB7-1B9EE97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9EB-AED2-49C2-8F12-E2ADD43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FB72C-F35F-4B5D-A52E-50F8039752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