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95352"/>
        <c:axId val="91344849"/>
      </c:barChart>
      <c:catAx>
        <c:axId val="72895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44849"/>
        <c:crosses val="autoZero"/>
        <c:auto val="1"/>
        <c:lblAlgn val="ctr"/>
        <c:lblOffset val="100"/>
        <c:noMultiLvlLbl val="0"/>
      </c:catAx>
      <c:valAx>
        <c:axId val="91344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95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E3B-4D05-4BFA-8EA8-99331C88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14B-6D94-4734-9915-CE3486FC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ABF-0E0B-41D9-8F55-D93B5DFE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902-EA72-4A44-8472-9CF8F7F3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013-C18A-41AD-8112-95A8600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289-BEEC-4A0A-AA5D-05B93E6D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151-DEC6-4C83-A9C4-673B215F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FF2-89B2-488A-85DF-9C1BB47D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46C-F1A7-44CC-9049-A013D48C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9AA-F78D-4B78-94AC-FCE84BCF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224-9D83-4E04-BA96-7BF23FC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0BB-CF02-4677-80F7-34063D23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712B9-F864-4F14-A8C7-19495EB6AE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